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526-FA27-4426-B4EE-1D3E1298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B13D-D1FB-4F9B-8F0A-04E6EB3B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DD6C-EEF5-42B0-9354-5E1CE574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3227-060D-4EB6-B5FB-435B8B01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2583-D15A-4955-93E0-405BD17C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59BB-2874-4317-9C51-782C0737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F1EC-6CE1-4EA0-AEAA-A16DE254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3060-B9FD-439A-8B28-1D0DEAE2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B5BB-C9FC-4114-9141-0047EF7B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11BC-BC0E-42B6-820C-631B05BD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3C02-4B8A-426B-A610-ECB0E1B5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2E2-2CEB-49BC-A221-D729BED6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2A0A-5B26-4420-974E-2C3EA0EC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E94B-CDAB-4E49-A9D7-8B09E38F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23C2-C908-4334-A33A-E9538BCA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2DDB-338A-4CAF-8B3F-1C8C283D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7D78-68AA-4CC7-98ED-43891F89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4727-F949-41B3-BD35-732617BB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07E-78E6-4718-B0BD-6704DB15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A68F-7CF1-40E3-9404-FCCC8BC7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9DCD-4892-4018-9B8F-D8638E21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67B-B760-421C-A732-99168CC5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C94-3116-4B3A-8021-BAEDCE75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0D26-D93C-4A60-928A-64742A32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96B1-BACD-46D6-964A-319369CF503E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9674-7AEF-4E23-93C6-F61746549316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5640" y="404640"/>
            <a:ext cx="7704000" cy="54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619280" y="1125360"/>
            <a:ext cx="5977080" cy="393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بناء المساكن بين الحاجة والترف .....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للشيخ / عبدالسلام برجس -رحمه الله-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19640" y="2536920"/>
            <a:ext cx="216036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1280" y="333360"/>
            <a:ext cx="7848360" cy="6048360"/>
          </a:xfrm>
          <a:prstGeom prst="rect">
            <a:avLst/>
          </a:prstGeom>
          <a:gradFill rotWithShape="0">
            <a:gsLst>
              <a:gs pos="0">
                <a:srgbClr val="aa845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e85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آية كريمة في سورة الشعراء، استوقفتني كثيراً، فيها عبرة، ونقد، وتوجيه: انها افتتاح الانتقادا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تي وجهها هود –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على نبينا وعليه الصلاة والسلام - الى قومه «عاد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» بعد ان دعاهم الى الله، وأمرهم بطاعته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«أتبنون بكل ريع آية تعبثون. وتتخذون مصانع لعلكم تخلدون. واذا بطشتم بطشتم جبارين»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نه - عليه السلام - ينتقد عبثهم بالبنيان، والعبث بالبنيان: تشييده لمجرد التباهي بالقدرة عليه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درة جسمية في بنائه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عقلية في تصميمه وهندسته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مالية في الانفاق عليه، فهو بناء لغير نفع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في هذا الانتقاد توجيه الى ان الجهد والبراعة وإنفاق المال انما يكون في البناء ا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ضروري المثمر خير الدين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سداد الدنيا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هذه الآية وجهت الى قوم «عاد» فما نصيبنا منها امة محمد صلى الله عليه وسلم؟ لبيان ذلك انقل أثرين من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آثار سلفنا الصالح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اول: عن مجاهد بن جبر - المتوفى وهو ساجد بمكة المكرمة سنة 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104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ه - حيث قال:«ليس احد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شبه فِعالاً بعاد من ا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ة محمد صلى الله عليه وسلم، قال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«أتبنون بكل ريع آية تعبثون» فقد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الله فعلوا. اخرجه ابن ابي حاتم في «تفسيره» «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9/2794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»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260280"/>
            <a:ext cx="8497800" cy="633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ec85e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ثاني: ما أخرجه ابن ابي حاتم - ايضاً - في تفسيره عن عون بن عبدالله بن عتبة، ان ابا الدرداء رضي الله عنه لما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رأى ما احدث المسلمون في الغوطة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ن البنيان، ونصب الشجر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ام في مسجدهم، فنادى: يا اهل دمشق! فاجتمعوا اليه. فحمد الله، واثنى عليه، ثم قال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لا تستحيون الا تستحيون، تجمعون مالا تأكلون، وتبنون مالا تسكنون، وتؤملون مالا تدركون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د كانت قبلكم قرون يجمعون فيوعون، ويبنون فيوثقون، ويأملون فيطيلون، فأصبح املهم غروراً، وأصبح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جمعهم بوراً، واصبح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ساكنهم قبوراً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ا إن عاداًَ ملكت ما 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بين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عدن وعمان خيلاً وركاباً من يشتري مني ميراث عاد بدرهمين؟ففي هذي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الاثرين غنى عن التوسع في ا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تعليق عما نعايشه هذه الايام من البناء للتباهي 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 للسكن، ابتداء من شراء الارض، فأجره المهندس، فالنار المحرقة للمال «البناء» فالاثاث المكمل «للديكور»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هلاً فانا لا اريد إنكار البناء، فهذا لا يقوله احد، انما اريد ان امنع 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بين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يديك ما جاء به دين الاسلا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ملة محمد عليه الصلاة والسلا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في قضية البناء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جمع علماء المسلمين على انه يلزم كل امرىء تحصيل مسكن له، ولمن تلزمه نفقته فمن حص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مسكناً له ولأهله، ببناء بيت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و اكترائه، فقد سلم من الاثم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كما رغّب الاسلام في سعة البيوت بكبر مساحتها، حيث صحَّ عن النبي صلى الله عليه وسلم ان م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ن سعادة المرء المسك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الواسع وان المسكن الضيق من الشقاء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333360"/>
            <a:ext cx="813600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lin ang="13500000"/>
          </a:gradFill>
          <a:ln cap="rnd" w="76320">
            <a:solidFill>
              <a:srgbClr val="5e855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للاسلام موقف واضح من المساكن التي شيدت على اساس التفاخر والتباهي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، أوجز ذلك الموق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في الفقرات التالية: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1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ليس لمن بنى بيتاً من غير حاجة، اوفوق ما يحتاجه، اجر، لما في «الصحيحين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عن خباب بن الار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رضي الله عنه انه قال وهو يبني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حائطاً له «إن المرء المسلم يؤجر في نفقته كلها، الا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في شيء يجعله في التراب» ورواه الترمذي مرفوعاً الى النبي صلى الله عليه وسلم من قوله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معنى «في التراب» اي البنيان الذي لم يقصد به وجه الله، وقد زاد على ما يحتاجه لنفسه و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عياله على الوجه اللائق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2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البناء بهذه الصفة من علامات قرب الساعة، وزوال الدنيا. ودليل ذلك ما رواه البخاري 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ن ابي هريرة رضي الله عنه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ان رسول الله صلى الله عليه وسلم قال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« لا تقوم الساعة..وحتى يتطاول الناس في البنيان»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روى البخاري ايضاً في الادب المفرد عن ابي هريرة رضي الله عنه عن النبي صلى الله عليه وسلم انه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قال لا تقوم الساعة حتى يبني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لناس بيوتاً يوشُّونها وشي المراحيل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ومعنى «يوشونها»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333360"/>
            <a:ext cx="828036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a8456"/>
              </a:gs>
            </a:gsLst>
            <a:lin ang="13500000"/>
          </a:gradFill>
          <a:ln cap="rnd" w="7632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ينقشونها ويصبغونها بأنواع الالوان المختلفة كما تنقش الثياب والفرش ومعنى:«المراحيل» الثياب المنقوشة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بنقوش تشبه رحال الابل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3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اخبر الصادق المصدوق عن حال الذين يبنون للمباهاة بما يردع غرورهم وتعاظمهم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ففي حديث عمر بن الخطاب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رضي الله عنه ا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لنبي صلى الله عليه وسلم اخبر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عن علامات الساعة فقال:«وان ترى الحفاة العراة العالة رعاء الشاء يتطاولون في البنيان».قال الحافظ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ابن رجب رحمه الله تعالى _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في جامع العلوم والحكم «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1/137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» والمراد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ن اسافل الناس يصيرون رؤساءهم، وتكثر اموالهم، حتى يتباهون بطول البنيان وزخرفته واتقانه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3:45:33Z</dcterms:created>
  <dc:creator>user</dc:creator>
  <dc:description/>
  <dc:language>en-US</dc:language>
  <cp:lastModifiedBy>user</cp:lastModifiedBy>
  <dcterms:modified xsi:type="dcterms:W3CDTF">2004-07-11T14:11:37Z</dcterms:modified>
  <cp:revision>6</cp:revision>
  <dc:subject/>
  <dc:title>Slide 1</dc:title>
</cp:coreProperties>
</file>